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29448-8C02-4B26-988B-115D3DA0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436F0-3786-41F3-B964-99E78635F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CDFF1-4DA7-4F36-AA38-488DEAFF8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924D5-0229-40A4-A106-3464F58AE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8EA3B-BE1A-4C54-8FD8-AF118334F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94AF0-8616-4CD1-91CF-A89CCC56D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BAA3E-F53A-4DF0-ADC6-665F7779F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17E5E-CADF-4AB1-B0CD-AEB644818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2FE89-DD88-468B-9625-E121EE342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F00FB-ADD0-41D0-9C5E-9F5FAE4D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3DE9B-B786-4625-B5B3-108B21B4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7E80-ED6C-42F6-B65E-7079F463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A0352-0A82-45E3-9286-28AF05807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FF604-FE92-4608-AAA0-299516D9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4D63E-C7C9-4DF8-AFCC-33F71CC58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F34AB-4977-4EB5-B1E1-E5571D232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524E0-E808-40E5-8906-82A28559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51DD-C4B7-41E1-9D22-273FDC66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5EC41-47B3-42D8-B4AC-0CFA50DC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0B84-C566-4CA7-8473-46262188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F2F1-FE4D-40D0-8F2A-975D85AA9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240C-45BE-40E3-8F14-1E204F4F4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F137A-73DA-45AF-BFED-CE3E803B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1AD5-6A7F-47B1-BF09-F7FFDA6A4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6591-6470-4DF2-8BCA-145D68193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3A92-4123-4936-BB79-99D070FA80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04812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eec94"/>
                </a:solidFill>
                <a:latin typeface="Times New Roman"/>
              </a:rPr>
              <a:t>Chapter 12                    Lesson 4 </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pan in isolation.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Josh DeGuzman, and Joe Branco</a:t>
            </a:r>
            <a:endParaRPr b="0" lang="en-US" sz="3200" spc="-1" strike="noStrike">
              <a:solidFill>
                <a:srgbClr val="ffffff"/>
              </a:solidFill>
              <a:latin typeface="Times New Roman"/>
            </a:endParaRPr>
          </a:p>
        </p:txBody>
      </p:sp>
      <p:pic>
        <p:nvPicPr>
          <p:cNvPr id="122" name="Picture 5" descr="ANd9GcTf39CTpwTYFuYpNhrcPPQG1NT1mT6KRSMC5ssMyAxlvG6fNC4_Xg"/>
          <p:cNvPicPr/>
          <p:nvPr/>
        </p:nvPicPr>
        <p:blipFill>
          <a:blip r:embed="rId1"/>
          <a:stretch/>
        </p:blipFill>
        <p:spPr>
          <a:xfrm>
            <a:off x="2895480" y="533520"/>
            <a:ext cx="3353040" cy="2501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8.33333E-007 -6.93889E-018 C -0.00729 -0.01018 -0.0217 -0.0155 -0.03142 -0.01921 C -0.05521 -0.028 -0.07934 -0.03009 -0.10382 -0.03148 C -0.17309 -0.03032 -0.21701 -0.0412 -0.27222 0.00533 C -0.29948 0.05209 -0.30816 0.07825 -0.3118 0.13866 C -0.31041 0.17639 -0.31024 0.21297 -0.3026 0.24908 C -0.30225 0.25047 -0.29861 0.26343 -0.29722 0.26482 C -0.28958 0.27292 -0.27864 0.27593 -0.26962 0.27894 C -0.22916 0.27825 -0.1085 0.29885 -0.0434 0.2632 C -0.02795 0.25463 -0.01267 0.24561 0.00278 0.23681 C 0.03299 0.21968 0.06511 0.21042 0.09618 0.19653 C 0.12483 0.1838 0.09566 0.20093 0.129 0.17894 C 0.13073 0.17778 0.13438 0.17547 0.13438 0.17547 C 0.14288 0.15811 0.15677 0.14815 0.16198 0.12801 C 0.16059 0.10764 0.16007 0.08704 0.15799 0.06667 C 0.15643 0.05209 0.15365 0.05163 0.14879 0.04028 C 0.12761 -0.00972 0.09705 -0.01365 0.0566 -0.01574 C 0.04097 -0.01782 0.03837 -0.01944 0.02118 -0.01412 C 0.00313 -0.00856 -0.01389 0.00625 -0.03281 0.0088 C -0.06215 0.0125 -0.0618 0.02315 -0.0618 0.0088 E">
                                      <p:cBhvr>
                                        <p:cTn id="6" dur="2000" fill="hold"/>
                                        <p:tgtEl>
                                          <p:spTgt spid="120"/>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1.11111E-006 -4.07407E-006 C -0.03246 0.00278 -0.06389 0.0081 -0.09601 0.01227 C -0.10295 0.01574 -0.11233 0.01875 -0.1184 0.02454 C -0.12187 0.02801 -0.12882 0.03495 -0.12882 0.03495 C -0.13507 0.04792 -0.15208 0.07477 -0.15642 0.08773 C -0.16649 0.11852 -0.17569 0.15046 -0.1868 0.18055 C -0.19496 0.20255 -0.20677 0.22245 -0.21302 0.2456 C -0.22396 0.28634 -0.23889 0.32639 -0.24722 0.36829 C -0.25469 0.40625 -0.26649 0.44074 -0.27361 0.47893 C -0.2776 0.50023 -0.2842 0.54352 -0.2842 0.54352 C -0.28594 0.58727 -0.28906 0.63079 -0.27621 0.67199 C -0.2743 0.67801 -0.25955 0.68634 -0.25382 0.68935 C -0.24427 0.68773 -0.23437 0.68727 -0.225 0.68426 C -0.21285 0.68055 -0.19687 0.66643 -0.18542 0.65926 C -0.16875 0.64907 -0.15226 0.64167 -0.13802 0.62616 C -0.13281 0.63449 -0.12951 0.64491 -0.12361 0.65231 C -0.09687 0.68588 -0.06614 0.70903 -0.03021 0.71759 C -0.00121 0.71343 0.02795 0.7125 0.0566 0.70532 C 0.10521 0.69329 0.14392 0.66782 0.1882 0.64213 C 0.22274 0.62222 0.2599 0.60648 0.29358 0.58426 C 0.31927 0.5669 0.34445 0.54792 0.36979 0.52986 C 0.39323 0.51296 0.41285 0.48796 0.4342 0.46643 C 0.46233 0.43843 0.4842 0.40787 0.49879 0.36481 C 0.5 0.35116 0.50139 0.34745 0.4974 0.33333 C 0.4934 0.31898 0.47274 0.30648 0.4632 0.29653 C 0.45295 0.28588 0.44219 0.27569 0.43299 0.26319 C 0.42899 0.25787 0.42552 0.25208 0.42118 0.24722 C 0.41962 0.24537 0.39115 0.21736 0.38559 0.2088 C 0.36858 0.18241 0.37205 0.19282 0.36458 0.16829 C 0.36059 0.15532 0.35764 0.13403 0.35 0.12454 C 0.34757 0.11435 0.34202 0.10625 0.33698 0.09815 C 0.31858 0.06782 0.29427 0.04606 0.27118 0.02268 C 0.25695 0.00833 0.24549 -0.00671 0.22899 -0.01574 C 0.21424 -0.00579 0.2 -0.01667 0.18559 -0.01759 C 0.16667 -0.01875 0.14792 -0.01875 0.12899 -0.01945 C 0.1224 -0.0206 0.11684 -0.02199 0.11059 -0.02454 C 0.09653 -0.03889 0.08316 -0.03241 0.0632 -0.03333 C 0.04497 -0.03218 0.02882 -0.0294 0.01059 -0.02801 C 0.00573 -0.02593 0.00642 -0.02732 0.00278 -0.02107 C 0.00087 -0.01782 -0.0026 -0.01065 -0.0026 -0.01065 C -0.00312 -0.00741 -0.00746 0.00995 -1.11111E-006 -4.07407E-006 Z">
                                      <p:cBhvr>
                                        <p:cTn id="10"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the policy of isolation, when it began, and how it affected Japanese trade and culture. </a:t>
            </a:r>
            <a:endParaRPr b="1" lang="en-US" sz="4000" spc="-1" strike="noStrike">
              <a:solidFill>
                <a:srgbClr val="feec94"/>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licy of isolation began in 1691. It cut off goods and cultures from other countries except China, Korea, Netherl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0 0 C 0.0217 0.04189 0.05798 0.04606 0.0934 0.05069 C 0.15052 0.04745 0.27829 0.05254 0.33559 -0.00371 C 0.3526 -0.02037 0.36336 -0.04977 0.36979 -0.07547 C 0.37135 -0.10116 0.37291 -0.10394 0.36458 -0.13519 C 0.35191 -0.18241 0.30052 -0.19491 0.26979 -0.2 C 0.24739 -0.19537 0.22465 -0.19306 0.2026 -0.18611 C 0.12951 -0.1632 0.03489 -0.07107 -0.00521 0.01736 C -0.01858 0.04676 -0.02483 0.07754 -0.03021 0.11041 C -0.02934 0.12685 -0.02987 0.14328 -0.02761 0.15949 C -0.02153 0.20301 0.00156 0.22152 0.03159 0.22801 C 0.04566 0.22384 0.06041 0.22268 0.07378 0.21574 C 0.08819 0.2081 0.12725 0.16041 0.13298 0.15069 C 0.17725 0.07569 0.20086 0.02824 0.21458 -0.05973 C 0.21145 -0.07431 0.21007 -0.08982 0.20538 -0.10371 C 0.19479 -0.13449 0.16111 -0.13519 0.14079 -0.13866 C 0.1118 -0.13565 0.08263 -0.13635 0.05399 -0.12986 C 0.03836 -0.12639 0.02343 -0.11829 0.0092 -0.1088 C -0.05157 -0.06829 -0.10695 -0.0257 -0.12622 0.06481 C -0.1283 0.10486 -0.13021 0.15648 -0.10521 0.18588 C -0.09566 0.19699 -0.08542 0.19884 -0.07362 0.20347 C -0.05782 0.19814 -0.0415 0.19537 -0.02622 0.1875 C 0.0243 0.1618 0.07586 0.10439 0.11059 0.05069 C 0.15746 -0.02223 0.19045 -0.06991 0.20538 -0.15811 C 0.20277 -0.17084 0.20225 -0.18496 0.19739 -0.19653 C 0.18489 -0.2257 0.1342 -0.21875 0.11718 -0.21945 C 0.00364 -0.20672 -0.10417 -0.14098 -0.1632 -0.00533 C -0.18091 0.03564 -0.18837 0.06967 -0.2 0.11389 C -0.20782 0.17847 -0.21511 0.23889 -0.19601 0.30162 C -0.18924 0.32361 -0.179 0.35185 -0.16042 0.35949 C -0.1533 0.3625 -0.14566 0.3618 -0.1382 0.36296 C -0.09723 0.35602 -0.10816 0.36319 -0.0658 0.32615 C 0.02378 0.24791 0.07621 0.19814 0.13298 0.07893 C 0.12586 -0.13033 0.18541 -0.23982 0.05 -0.28264 C 0.03333 -0.28797 0.01579 -0.28843 -0.00122 -0.29144 C -0.03976 -0.28843 -0.07865 -0.28959 -0.11702 -0.28264 C -0.15469 -0.2757 -0.20191 -0.24491 -0.23421 -0.22107 C -0.28664 -0.18218 -0.34323 -0.13727 -0.3724 -0.06505 C -0.3757 -0.04445 -0.38212 -0.00764 -0.3816 0.01227 C -0.38073 0.04861 -0.37934 0.08518 -0.37362 0.12083 C -0.35018 0.2662 -0.20556 0.26898 -0.11962 0.27176 C -0.08108 0.26713 -0.04219 0.26666 -0.004 0.25787 C 0.11215 0.23078 0.21562 0.10486 0.26319 -0.03519 C 0.27309 -0.06459 0.27899 -0.09607 0.2868 -0.12639 C 0.29027 -0.1544 0.29739 -0.18218 0.29739 -0.21065 C 0.29739 -0.33079 0.27222 -0.45625 0.18559 -0.51412 C 0.15781 -0.53264 0.14062 -0.53357 0.11059 -0.54051 C 0.0842 -0.53588 0.05729 -0.53519 0.03159 -0.52639 C -0.01962 -0.50857 -0.05539 -0.44283 -0.08021 -0.38611 C -0.10452 -0.25834 -0.08021 -0.12084 -0.0316 -0.00718 C -0.00868 0.04629 0.02465 0.10185 0.06718 0.12963 C 0.11284 0.15949 0.16371 0.16134 0.21319 0.16296 C 0.29288 0.13842 0.36562 0.10023 0.41979 0.01389 C 0.44774 -0.03079 0.45295 -0.05394 0.46979 -0.10371 C 0.47204 -0.12361 0.4776 -0.14329 0.47638 -0.1632 C 0.47413 -0.19908 0.46822 -0.23473 0.4592 -0.26852 C 0.44809 -0.31065 0.42604 -0.33102 0.39878 -0.35278 C 0.32621 -0.41088 0.24444 -0.41922 0.1618 -0.42107 C 0.07916 -0.41227 -0.01007 -0.41806 -0.07362 -0.33519 C -0.09375 -0.30903 -0.09757 -0.29445 -0.11042 -0.2632 C -0.12448 -0.17986 -0.12205 -0.09815 -0.10261 -0.01598 C -0.09306 0.02407 -0.08212 0.07777 -0.05261 0.10162 C -0.03872 0.11273 -0.02205 0.11435 -0.0066 0.11921 C 0.04687 0.11342 0.09583 0.1037 0.13958 0.05787 C 0.14913 0.04791 0.15763 0.03634 0.16579 0.02453 C 0.1743 0.01227 0.18958 -0.01412 0.18958 -0.01412 E">
                                      <p:cBhvr>
                                        <p:cTn id="97" dur="2000" fill="hold"/>
                                        <p:tgtEl>
                                          <p:spTgt spid="156">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were the causes of the collapse of the shogun government of the Tokugawa dynasty</a:t>
            </a:r>
            <a:endParaRPr b="1" lang="en-US" sz="4000" spc="-1" strike="noStrike">
              <a:solidFill>
                <a:srgbClr val="feec94"/>
              </a:solidFill>
              <a:latin typeface="Times New Roman"/>
            </a:endParaRPr>
          </a:p>
        </p:txBody>
      </p:sp>
      <p:sp>
        <p:nvSpPr>
          <p:cNvPr id="158" name="PlaceHolder 2"/>
          <p:cNvSpPr>
            <a:spLocks noGrp="1"/>
          </p:cNvSpPr>
          <p:nvPr>
            <p:ph/>
          </p:nvPr>
        </p:nvSpPr>
        <p:spPr>
          <a:xfrm>
            <a:off x="-457200" y="1981080"/>
            <a:ext cx="8229600" cy="43783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hoguns fell because they fell into dept. As the merchant class grew wealthier  and more powerful, taxes were raised causing farmers to riot. The result of that was the class system began to crumb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hoe Japan was organized in “Early Japan” and the changes that were made.</a:t>
            </a:r>
            <a:endParaRPr b="1" lang="en-US" sz="4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Japan was made of 100 states. By the 600’s the states were united in one constitution. </a:t>
            </a:r>
            <a:endParaRPr b="0" lang="en-US" sz="3200" spc="-1" strike="noStrike">
              <a:solidFill>
                <a:srgbClr val="ffffff"/>
              </a:solidFill>
              <a:latin typeface="Times New Roman"/>
            </a:endParaRPr>
          </a:p>
        </p:txBody>
      </p:sp>
      <p:pic>
        <p:nvPicPr>
          <p:cNvPr id="125" name="Picture 5" descr="ANd9GcTRovRgo0KIKDKP-OmR58L9rDtp0RZjhC8cG-MpXC5GbKrHt3RVgw"/>
          <p:cNvPicPr/>
          <p:nvPr/>
        </p:nvPicPr>
        <p:blipFill>
          <a:blip r:embed="rId1"/>
          <a:stretch/>
        </p:blipFill>
        <p:spPr>
          <a:xfrm>
            <a:off x="2895480" y="2590920"/>
            <a:ext cx="4648320" cy="42670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4.72222E-006 -4.44444E-006 C 0.02795 -0.01088 0.05243 -0.03541 0.07899 -0.05092 C 0.09097 -0.0574 0.10364 -0.06342 0.1158 -0.07037 C 0.12014 -0.07268 0.12899 -0.07708 0.12899 -0.07708 C 0.15521 -0.11203 0.1783 -0.14652 0.20139 -0.18588 C 0.2092 -0.1993 0.21389 -0.21574 0.22101 -0.22986 C 0.22344 -0.24213 0.22378 -0.25532 0.2276 -0.26689 C 0.2309 -0.27708 0.2401 -0.28564 0.24479 -0.29467 C 0.24687 -0.29907 0.24809 -0.30393 0.25 -0.30879 C 0.25746 -0.32708 0.25087 -0.30694 0.2566 -0.32801 C 0.25781 -0.33287 0.26059 -0.34213 0.26059 -0.34213 C 0.26094 -0.37291 0.2592 -0.40439 0.2618 -0.43495 C 0.26267 -0.44514 0.26719 -0.45416 0.27101 -0.46296 C 0.27448 -0.47129 0.2816 -0.4875 0.2816 -0.4875 C 0.28298 -0.49722 0.28455 -0.50648 0.2868 -0.51574 C 0.28767 -0.53402 0.28819 -0.55208 0.28941 -0.57037 C 0.29167 -0.60162 0.29861 -0.63333 0.30139 -0.66504 C 0.29201 -0.66759 0.26684 -0.66203 0.2592 -0.66134 C 0.22274 -0.65787 0.18802 -0.65393 0.15139 -0.65254 C 0.11649 -0.65393 0.02066 -0.65694 -0.0158 -0.66134 C -0.02865 -0.66319 -0.04115 -0.66782 -0.05399 -0.67014 C -0.11528 -0.68148 -0.17761 -0.6868 -0.23941 -0.6912 C -0.26962 -0.69004 -0.3 -0.69027 -0.33021 -0.6875 C -0.33247 -0.68727 -0.33351 -0.68356 -0.33559 -0.6824 C -0.34375 -0.67777 -0.35226 -0.67407 -0.36059 -0.67014 C -0.38264 -0.65995 -0.40573 -0.65463 -0.42899 -0.65254 C -0.44392 -0.6537 -0.45886 -0.65416 -0.47361 -0.65625 C -0.48785 -0.65764 -0.48438 -0.66041 -0.4974 -0.66319 C -0.51059 -0.66574 -0.52257 -0.66713 -0.53559 -0.66828 C -0.53785 -0.66921 -0.54115 -0.67291 -0.54219 -0.67014 C -0.54583 -0.66064 -0.53663 -0.63865 -0.5342 -0.62986 C -0.52483 -0.59514 -0.51389 -0.56157 -0.50261 -0.52824 C -0.49844 -0.51574 -0.49705 -0.50578 -0.4908 -0.4949 C -0.49722 -0.47037 -0.49097 -0.43703 -0.48941 -0.41041 C -0.49149 -0.33426 -0.49236 -0.2743 -0.49861 -0.20347 C -0.49983 -0.18912 -0.49879 -0.17685 -0.50521 -0.16481 C -0.51372 -0.12245 -0.50972 -0.07523 -0.51181 -0.03333 C -0.51233 -0.02222 -0.51302 -0.02291 -0.51719 -0.01736 C -0.51858 0.00973 -0.51493 0.04121 -0.52101 0.06667 C -0.5224 0.11968 -0.5224 0.17223 -0.53559 0.22292 C -0.51806 0.2382 -0.50538 0.22662 -0.47899 0.22454 C -0.45122 0.21436 -0.42188 0.20695 -0.3934 0.20186 C -0.38316 0.19769 -0.37899 0.19723 -0.3724 0.18611 C -0.36806 0.16389 -0.37309 0.18125 -0.33681 0.17199 C -0.32031 0.1676 -0.30104 0.15949 -0.28559 0.15093 C -0.25556 0.13426 -0.23108 0.11019 -0.20261 0.08959 C -0.18403 0.07616 -0.1849 0.07778 -0.16719 0.05949 C -0.15903 0.05116 -0.13403 0.02917 -0.125 0.01065 C -0.12639 0.00741 -0.13108 0.00371 -0.12899 0.00186 C -0.12865 0.00116 -0.11233 0.00486 -0.11059 0.0051 C -0.10382 0.00486 -0.0849 0.00486 -0.075 0.00186 C -0.06615 -0.00115 -0.05764 -0.00602 -0.04861 -0.00856 C -0.04323 -0.01342 -0.04011 -0.01643 -0.03577 -0.02291 C -0.03004 -0.01134 -0.03629 -0.02291 -0.02899 -0.01389 C -0.02136 -0.00486 -0.01892 0.00116 -0.0092 0.0051 C -0.00365 0.00023 -0.00677 0.00232 4.72222E-006 -4.44444E-006 Z">
                                      <p:cBhvr>
                                        <p:cTn id="16" dur="2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contact with China and Korea bring to Japan?</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na and Korea brought the Chinese system of writing and Buddhism.</a:t>
            </a:r>
            <a:endParaRPr b="0" lang="en-US" sz="3200" spc="-1" strike="noStrike">
              <a:solidFill>
                <a:srgbClr val="ffffff"/>
              </a:solidFill>
              <a:latin typeface="Times New Roman"/>
            </a:endParaRPr>
          </a:p>
        </p:txBody>
      </p:sp>
      <p:pic>
        <p:nvPicPr>
          <p:cNvPr id="128" name="Picture 5" descr="ANd9GcQxQQ3tLTl-sF0piULO4KDIpU3Uc9t6cbbTCaIQnV2Fo4xvYQDgbw"/>
          <p:cNvPicPr/>
          <p:nvPr/>
        </p:nvPicPr>
        <p:blipFill>
          <a:blip r:embed="rId1"/>
          <a:stretch/>
        </p:blipFill>
        <p:spPr>
          <a:xfrm>
            <a:off x="4343400" y="2895480"/>
            <a:ext cx="3990960" cy="3505320"/>
          </a:xfrm>
          <a:prstGeom prst="rect">
            <a:avLst/>
          </a:prstGeom>
          <a:ln w="0">
            <a:noFill/>
          </a:ln>
        </p:spPr>
      </p:pic>
      <p:pic>
        <p:nvPicPr>
          <p:cNvPr id="129" name="Picture 7" descr="ANd9GcTsorAtVAjEORLbPHzfc9O8bBIPMPSktWLIeYlljdUs7gU5KYXy"/>
          <p:cNvPicPr/>
          <p:nvPr/>
        </p:nvPicPr>
        <p:blipFill>
          <a:blip r:embed="rId2"/>
          <a:stretch/>
        </p:blipFill>
        <p:spPr>
          <a:xfrm>
            <a:off x="914400" y="2895480"/>
            <a:ext cx="3427560" cy="35053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77778E-007 -6.2963E-006 C 0.00642 -0.01204 0.01597 -0.01991 0.02222 -0.03172 C 0.05087 -0.08496 0.09132 -0.1257 0.10521 -0.19121 C 0.10347 -0.20464 0.10312 -0.21876 0.1 -0.23172 C 0.09236 -0.26297 0.07066 -0.28913 0.05521 -0.31227 C 0.04601 -0.32616 0.03507 -0.34538 0.02222 -0.35278 C 0.00573 -0.36227 -0.01615 -0.36343 -0.0342 -0.36852 C -0.07622 -0.38056 -0.11389 -0.40811 -0.14879 -0.43866 C -0.15608 -0.43542 -0.16892 -0.44121 -0.175 -0.44214 C -0.1974 -0.44538 -0.21979 -0.44746 -0.24219 -0.45093 C -0.25104 -0.45024 -0.26007 -0.45186 -0.26858 -0.44908 C -0.27188 -0.44815 -0.29358 -0.43218 -0.29879 -0.42825 C -0.33611 -0.40116 -0.31424 -0.41876 -0.3408 -0.40348 C -0.35139 -0.39746 -0.36181 -0.39052 -0.3724 -0.38427 C -0.37552 -0.38241 -0.3816 -0.37894 -0.3816 -0.37894 C -0.38333 -0.37593 -0.38507 -0.37292 -0.38698 -0.37014 C -0.38941 -0.36644 -0.39236 -0.36343 -0.39479 -0.35973 C -0.39774 -0.35533 -0.39913 -0.34885 -0.40278 -0.34561 C -0.41181 -0.33751 -0.42153 -0.3301 -0.4316 -0.32454 C -0.4382 -0.31621 -0.44653 -0.31204 -0.45278 -0.30348 C -0.46285 -0.28982 -0.46875 -0.27663 -0.47118 -0.25788 C -0.47222 -0.23033 -0.47344 -0.20093 -0.47778 -0.17385 C -0.47865 -0.16852 -0.47951 -0.1632 -0.48038 -0.15788 C -0.4809 -0.1544 -0.48299 -0.14746 -0.48299 -0.14746 C -0.48142 -0.12616 -0.4816 -0.12501 -0.4882 -0.10718 C -0.48958 -0.09607 -0.4908 -0.08612 -0.49358 -0.07547 C -0.49445 -0.07223 -0.49601 -0.05394 -0.49618 -0.05278 C -0.49774 -0.04098 -0.49983 -0.02894 -0.50278 -0.0176 C -0.50417 -0.00394 -0.50261 -0.00903 -0.50538 -0.00186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61111E-006 -5.18519E-006 C 0.00365 -0.02732 0.01684 -0.0507 0.0276 -0.07362 C 0.04653 -0.1139 0.03733 -0.10186 0.06059 -0.14028 C 0.09253 -0.19283 0.13038 -0.2338 0.16979 -0.27547 C 0.1941 -0.3014 0.22222 -0.31552 0.25139 -0.32802 C 0.26285 -0.33288 0.28681 -0.33681 0.28681 -0.33681 C 0.30521 -0.35487 0.33281 -0.36459 0.35521 -0.36853 C 0.3684 -0.36737 0.38177 -0.36783 0.39479 -0.36505 C 0.39913 -0.36413 0.40278 -0.36066 0.4066 -0.35788 C 0.4408 -0.3338 0.4651 -0.31413 0.48281 -0.26667 C 0.48385 -0.25278 0.48472 -0.24121 0.48819 -0.22802 C 0.49184 -0.18496 0.48438 -0.14399 0.5026 -0.10695 C 0.50226 -0.07593 0.50208 -0.04515 0.50139 -0.01413 C 0.50122 -0.00603 0.5 -0.00186 0.49601 0.00347 E">
                                      <p:cBhvr>
                                        <p:cTn id="26" dur="2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did the noble families occupy a place in government?</a:t>
            </a:r>
            <a:endParaRPr b="1" lang="en-US" sz="4000" spc="-1" strike="noStrike">
              <a:solidFill>
                <a:srgbClr val="feec94"/>
              </a:solidFill>
              <a:latin typeface="Times New Roman"/>
            </a:endParaRPr>
          </a:p>
        </p:txBody>
      </p:sp>
      <p:sp>
        <p:nvSpPr>
          <p:cNvPr id="131" name="PlaceHolder 2"/>
          <p:cNvSpPr>
            <a:spLocks noGrp="1"/>
          </p:cNvSpPr>
          <p:nvPr>
            <p:ph/>
          </p:nvPr>
        </p:nvSpPr>
        <p:spPr>
          <a:xfrm>
            <a:off x="304920" y="167616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orked to weaken the emperors power. By creating a plots of land that were free from the emperor’s inferences and taxes. </a:t>
            </a:r>
            <a:endParaRPr b="0" lang="en-US" sz="3200" spc="-1" strike="noStrike">
              <a:solidFill>
                <a:srgbClr val="ffffff"/>
              </a:solidFill>
              <a:latin typeface="Times New Roman"/>
            </a:endParaRPr>
          </a:p>
        </p:txBody>
      </p:sp>
      <p:pic>
        <p:nvPicPr>
          <p:cNvPr id="132" name="Picture 5" descr="http://t3.gstatic.com/images?q=tbn:ANd9GcTHjRUuvyfxq-pkbdbOokAywqezXkvGi3lQtvqx3Q_-IjPm8s1FrA"/>
          <p:cNvPicPr/>
          <p:nvPr/>
        </p:nvPicPr>
        <p:blipFill>
          <a:blip r:embed="rId1"/>
          <a:stretch/>
        </p:blipFill>
        <p:spPr>
          <a:xfrm>
            <a:off x="2438280" y="3200400"/>
            <a:ext cx="4343400" cy="289548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6">
                                  <p:stCondLst>
                                    <p:cond delay="0"/>
                                  </p:stCondLst>
                                  <p:childTnLst>
                                    <p:set>
                                      <p:cBhvr>
                                        <p:cTn id="32" dur="1" fill="hold">
                                          <p:stCondLst>
                                            <p:cond delay="0"/>
                                          </p:stCondLst>
                                        </p:cTn>
                                        <p:tgtEl>
                                          <p:spTgt spid="130"/>
                                        </p:tgtEl>
                                        <p:attrNameLst>
                                          <p:attrName>style.visibility</p:attrName>
                                        </p:attrNameLst>
                                      </p:cBhvr>
                                      <p:to>
                                        <p:strVal val="visible"/>
                                      </p:to>
                                    </p:set>
                                    <p:anim calcmode="lin" valueType="num">
                                      <p:cBhvr additive="repl">
                                        <p:cTn id="33" dur="2000" fill="hold"/>
                                        <p:tgtEl>
                                          <p:spTgt spid="130"/>
                                        </p:tgtEl>
                                        <p:attrNameLst>
                                          <p:attrName>ppt_w</p:attrName>
                                        </p:attrNameLst>
                                      </p:cBhvr>
                                      <p:tavLst>
                                        <p:tav tm="0">
                                          <p:val>
                                            <p:strVal val="#ppt_w"/>
                                          </p:val>
                                        </p:tav>
                                        <p:tav tm="100000">
                                          <p:val>
                                            <p:strVal val="#ppt_w"/>
                                          </p:val>
                                        </p:tav>
                                      </p:tavLst>
                                    </p:anim>
                                    <p:anim calcmode="lin" valueType="num">
                                      <p:cBhvr additive="repl">
                                        <p:cTn id="34" dur="2000" fill="hold"/>
                                        <p:tgtEl>
                                          <p:spTgt spid="13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 dur="2000" fill="hold"/>
                                        <p:tgtEl>
                                          <p:spTgt spid="130"/>
                                        </p:tgtEl>
                                        <p:attrNameLst>
                                          <p:attrName>ppt_x</p:attrName>
                                        </p:attrNameLst>
                                      </p:cBhvr>
                                      <p:tavLst>
                                        <p:tav tm="0">
                                          <p:val>
                                            <p:strVal val="#ppt_x-.4"/>
                                          </p:val>
                                        </p:tav>
                                        <p:tav tm="100000">
                                          <p:val>
                                            <p:strVal val="#ppt_x"/>
                                          </p:val>
                                        </p:tav>
                                      </p:tavLst>
                                    </p:anim>
                                    <p:anim calcmode="lin" valueType="num">
                                      <p:cBhvr additive="repl">
                                        <p:cTn id="36" dur="2000" fill="hold"/>
                                        <p:tgtEl>
                                          <p:spTgt spid="13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0 0 C -0.06042 -0.01227 -0.1224 -0.00625 -0.18299 -0.00533 C -0.19948 -0.00186 -0.23299 0.00162 -0.2474 0.01574 C -0.2783 0.04629 -0.29149 0.08009 -0.30538 0.12801 C -0.30955 0.14213 -0.30695 0.14166 -0.31059 0.15787 C -0.31198 0.16389 -0.31441 0.16944 -0.3158 0.17546 C -0.31701 0.18055 -0.31771 0.18588 -0.31858 0.1912 C -0.31771 0.20301 -0.31771 0.21481 -0.3158 0.22639 C -0.31372 0.23889 -0.30434 0.2537 -0.3 0.26481 C -0.28958 0.29097 -0.28281 0.31041 -0.26979 0.33518 C -0.25886 0.35578 -0.25365 0.38449 -0.23559 0.39652 C -0.22969 0.40856 -0.23472 0.42801 -0.23299 0.44375 C -0.23264 0.44745 -0.23177 0.45115 -0.23038 0.45439 C -0.22795 0.46041 -0.2224 0.47199 -0.2224 0.47199 C -0.22101 0.48935 -0.21771 0.50023 -0.21198 0.51574 C -0.20955 0.53472 -0.19931 0.5449 -0.1908 0.55972 C -0.18438 0.57106 -0.17743 0.58171 -0.17118 0.59305 C -0.16719 0.60023 -0.16458 0.60833 -0.1592 0.61412 C -0.14045 0.63426 -0.15903 0.61365 -0.14219 0.62801 C -0.13976 0.63009 -0.1382 0.63356 -0.13559 0.63518 C -0.12986 0.63865 -0.11233 0.64051 -0.10538 0.64213 C -0.09445 0.64143 -0.08333 0.64213 -0.0724 0.64027 C -0.05938 0.63819 -0.04653 0.62986 -0.03299 0.62801 C 0.01267 0.62199 0.06198 0.62245 0.10642 0.62106 C 0.12639 0.61365 0.12569 0.6125 0.15521 0.60532 C 0.21215 0.57129 0.27153 0.5456 0.33021 0.51759 C 0.35903 0.50393 0.39948 0.49884 0.41962 0.46481 C 0.42604 0.43426 0.42413 0.44953 0.41701 0.3912 C 0.41302 0.35787 0.40121 0.32592 0.39201 0.29467 C 0.38871 0.28333 0.38177 0.27685 0.37882 0.26481 C 0.37031 0.23078 0.3625 0.19676 0.35 0.16481 C 0.33576 0.12847 0.31979 0.1037 0.29722 0.07708 C 0.2941 0.07338 0.28941 0.07314 0.28542 0.07199 C 0.25087 0.0618 0.22361 0.0625 0.1868 0.06134 C 0.17795 0.05671 0.17691 0.05324 0.16962 0.0456 C 0.16649 0.04236 0.16215 0.04166 0.15903 0.03865 C 0.14427 0.02384 0.12969 0.00972 0.11441 -0.00348 C 0.10625 -0.01042 0.10052 -0.01621 0.0908 -0.01922 C 0.07969 -0.02686 0.09028 -0.01991 0.08142 -0.02454 C 0.07708 -0.02686 0.0684 -0.03148 0.0684 -0.03148 C 0.05625 -0.02963 0.05434 -0.02686 0.0434 -0.01922 C 0.03715 -0.01482 0.02934 -0.01667 0.02222 -0.01574 C 0.01962 -0.01459 0.01701 -0.01343 0.01441 -0.01227 C 0.00417 -0.00764 0.01823 -0.00695 0.01042 -0.00186 C 0.00746 0 0.00347 0 0 0 Z">
                                      <p:cBhvr>
                                        <p:cTn id="40" dur="2000" fill="hold"/>
                                        <p:tgtEl>
                                          <p:spTgt spid="131">
                                            <p:txEl>
                                              <p:pRg st="0" end="0"/>
                                            </p:txEl>
                                          </p:spTgt>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61111E-006 -4.44444E-006 C 0.01458 -0.01574 0.03073 -0.02986 0.04601 -0.04398 C 0.04965 -0.04745 0.05417 -0.04907 0.05781 -0.05278 C 0.09167 -0.08773 0.12083 -0.12916 0.14722 -0.17384 C 0.16267 -0.20023 0.15139 -0.17569 0.16181 -0.2 C 0.1625 -0.20879 0.1651 -0.21759 0.16441 -0.22639 C 0.16267 -0.24768 0.15399 -0.26643 0.14861 -0.28611 C 0.14757 -0.29004 0.14774 -0.29491 0.14583 -0.29838 C 0.14149 -0.30764 0.12292 -0.32315 0.11962 -0.32639 C 0.09965 -0.34537 0.07691 -0.3618 0.0526 -0.36852 C 0.04288 -0.37106 -0.00156 -0.375 -0.0066 -0.37546 C -0.03472 -0.37245 -0.06285 -0.37106 -0.0908 -0.36666 C -0.23958 -0.34352 -0.12274 -0.35463 -0.18299 -0.3493 C -0.18611 -0.34745 -0.18924 -0.34606 -0.19219 -0.34398 C -0.19358 -0.34305 -0.19462 -0.34051 -0.19618 -0.34051 C -0.19861 -0.34051 -0.20052 -0.34328 -0.20278 -0.34398 C -0.20486 -0.34467 -0.22049 -0.34745 -0.22118 -0.34745 C -0.2375 -0.35023 -0.25365 -0.35116 -0.26979 -0.35278 C -0.31337 -0.36157 -0.30799 -0.36273 -0.3724 -0.3544 C -0.37882 -0.35347 -0.38472 -0.34884 -0.3908 -0.3456 C -0.43246 -0.32338 -0.44757 -0.27245 -0.4566 -0.21759 C -0.45833 -0.17523 -0.46163 -0.13495 -0.46458 -0.09305 C -0.46406 -0.0831 -0.46354 -0.07315 -0.46319 -0.06319 C -0.46007 0.01204 -0.46441 0.10695 -0.4316 0.17547 C -0.42257 0.19445 -0.41476 0.21181 -0.3974 0.21574 C -0.37812 0.2257 -0.36285 0.24144 -0.34219 0.24722 C -0.31128 0.25579 -0.27882 0.25787 -0.2474 0.25949 C -0.19288 0.26574 -0.13889 0.27153 -0.0842 0.27361 C -0.03785 0.26875 -0.00955 0.26829 0.03802 0.24908 C 0.09514 0.22593 0.15313 0.19746 0.21181 0.18056 C 0.22066 0.17523 0.22899 0.17084 0.23681 0.1632 C 0.24028 0.14769 0.24167 0.13426 0.2434 0.11736 C 0.24236 0.08472 0.23941 0.05209 0.23941 0.01922 C 0.23941 -0.01111 0.24375 -0.04166 0.24201 -0.07199 C 0.24184 -0.0743 0.24063 -0.06481 0.23542 -0.06319 C 0.23108 -0.0618 0.22656 -0.06203 0.22222 -0.06157 C 0.20885 -0.05532 0.19427 -0.0537 0.18021 -0.05092 C 0.15642 -0.04051 0.13142 -0.04213 0.1066 -0.04051 C 0.09861 -0.03773 0.09444 -0.0294 0.08802 -0.02291 C 0.08403 -0.01875 0.07917 -0.01458 0.075 -0.01065 C 0.06476 -0.0118 0.05799 -0.01389 0.04861 -0.01759 C 0.04375 -0.01597 0.03906 -0.01389 0.03403 -0.01227 C 0.02951 -0.0081 0.02379 -0.00416 0.0184 -0.00185 C 0.01198 0.00371 0.00451 0.0044 -0.00278 0.00695 C -0.00486 0.00625 -0.00799 0.00764 -0.00937 0.00509 C -0.01024 0.00347 -0.00677 0.00232 -0.00538 0.00162 C -0.00156 -0.00023 0.0026 -0.00046 0.0066 -0.00185 C 0.01059 -0.00116 0.01458 -0.00162 0.0184 -4.44444E-006 C 0.01979 0.0007 0.01441 0.00162 0.01441 0.00162 E">
                                      <p:cBhvr>
                                        <p:cTn id="44" dur="2000" fill="hold"/>
                                        <p:tgtEl>
                                          <p:spTgt spid="1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did the Noble’s rely on for protection and how did they protect them?</a:t>
            </a:r>
            <a:endParaRPr b="1" lang="en-US" sz="40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ere protected by the help of the Samurai’s. They protected them by defending their land.</a:t>
            </a:r>
            <a:endParaRPr b="0" lang="en-US" sz="3200" spc="-1" strike="noStrike">
              <a:solidFill>
                <a:srgbClr val="ffffff"/>
              </a:solidFill>
              <a:latin typeface="Times New Roman"/>
            </a:endParaRPr>
          </a:p>
        </p:txBody>
      </p:sp>
      <p:pic>
        <p:nvPicPr>
          <p:cNvPr id="135" name="Picture 5" descr="http://t3.gstatic.com/images?q=tbn:ANd9GcQFY12ya-t8mCm49KdjvCtWxmpnrq4JUbdL7WgLvk_NCMglFNI_XQ"/>
          <p:cNvPicPr/>
          <p:nvPr/>
        </p:nvPicPr>
        <p:blipFill>
          <a:blip r:embed="rId1"/>
          <a:stretch/>
        </p:blipFill>
        <p:spPr>
          <a:xfrm>
            <a:off x="1981080" y="3048120"/>
            <a:ext cx="5334120" cy="33526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path" presetID="0">
                                  <p:stCondLst>
                                    <p:cond delay="0"/>
                                  </p:stCondLst>
                                  <p:childTnLst>
                                    <p:animMotion origin="layout" path="M 7.5E-006 -3.7037E-007 C 0.01442 -0.00579 -0.000690000000000003 -0.00023 0.03542 -0.00347 C 0.04185 -0.00417 0.0441 -0.00671 0.05122 -0.0088 C 0.05903 -0.01111 0.06702 -0.01204 0.07483 -0.01389 C 0.10938 -0.03681 0.14185 -0.05208 0.16702 -0.09282 C 0.17692 -0.1088 0.18768 -0.12801 0.1948 -0.14722 C 0.19931 -0.15949 0.20192 -0.17477 0.20921 -0.18426 C 0.20608 -0.21875 0.19445 -0.24838 0.18942 -0.28241 C 0.18716 -0.29722 0.179 -0.33843 0.17101 -0.34907 C 0.15834 -0.36597 0.15174 -0.37847 0.13421 -0.3912 C 0.11685 -0.4037 0.10001 -0.41736 0.08924 -0.44028 C 0.07535 -0.46968 0.07049 -0.50301 0.06181 -0.53495 C 0.06181 -0.53542 0.05903 -0.56968 0.05903 -0.57014 C 0.06025 -0.57315 0.06268 -0.56551 0.06442 -0.5632 C 0.0408 -0.56019 0.03108 -0.54954 0.00782 -0.53333 C -0.02378 -0.51157 -0.0894 -0.4544 -0.121 -0.42107 C -0.14808 -0.39259 -0.17725 -0.35995 -0.21058 -0.3456 C -0.21232 -0.34676 -0.21683 -0.34699 -0.21579 -0.34907 C -0.21319 -0.3544 -0.20399 -0.35949 -0.20399 -0.35949 C -0.19774 -0.34745 -0.1894 -0.33935 -0.18159 -0.32986 C -0.16562 -0.31042 -0.15954 -0.29468 -0.1368 -0.28935 C -0.12621 -0.28241 -0.12343 -0.28125 -0.11579 -0.26829 C -0.11284 -0.25139 -0.10781 -0.23588 -0.10399 -0.21921 C -0.09878 -0.1963 -0.09496 -0.17153 -0.07638 -0.1632 C -0.07968 -0.12593 -0.08385 -0.08773 -0.08958 -0.05093 C -0.08992 -0.04259 -0.08576 -0.03125 -0.09079 -0.02616 C -0.09739 -0.01945 -0.10763 -0.02639 -0.11579 -0.02454 C -0.12569 -0.02245 -0.13489 -0.01667 -0.14479 -0.01389 C -0.18975 -0.00139 -0.23281 0.02407 -0.27916 0.02986 C -0.29895 0.03727 -0.29965 0.03773 -0.3276 0.04213 C -0.36926 0.05903 -0.40937 0.08889 -0.4526 0.09653 C -0.45833 0.09606 -0.46423 0.09305 -0.46979 0.09491 C -0.47152 0.0956 -0.46892 0.09954 -0.4684 0.10185 C -0.46597 0.11134 -0.46215 0.1206 -0.4592 0.12986 C -0.45503 0.14282 -0.45242 0.14676 -0.44739 0.15972 C -0.43992 0.1787 -0.43315 0.20393 -0.41979 0.21759 C -0.37638 0.20764 -0.33211 0.20625 -0.28819 0.20347 C -0.27569 0.20185 -0.23767 0.19699 -0.2276 0.19491 C -0.20781 0.19074 -0.1684 0.18079 -0.1684 0.18079 C -0.14166 0.16759 -0.11874 0.1581 -0.09357 0.14051 C -0.07222 0.12569 -0.04513 0.13935 -0.021 0.13866 C -0.02569 0.11829 -0.02933 0.09745 -0.0342 0.07731 C -0.03229 0.06111 -0.03402 0.05417 -0.02656 0.04398 C -0.02569 0.0412 -0.02308 0.03125 -0.02239 0.02986 C -0.01996 0.02546 -0.01579 0.02361 -0.01319 0.01944 C -0.01215 0.01782 -0.0118 0.01551 -0.01076 0.01412 C -0.00711 0.01042 0.00782 -3.7037E-007 0.01181 -3.7037E-007 E">
                                      <p:cBhvr>
                                        <p:cTn id="50"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0"/>
            <a:ext cx="83059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were the Mongols unable to invade Japan? To what did the Japanese attribute their success at holding off Mongol invasion?</a:t>
            </a:r>
            <a:endParaRPr b="1" lang="en-US" sz="4000" spc="-1" strike="noStrike">
              <a:solidFill>
                <a:srgbClr val="feec94"/>
              </a:solidFill>
              <a:latin typeface="Times New Roman"/>
            </a:endParaRPr>
          </a:p>
        </p:txBody>
      </p:sp>
      <p:sp>
        <p:nvSpPr>
          <p:cNvPr id="137"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hoons helped Japan to defeat invaders. The “Divine Winds” helped them for their success . </a:t>
            </a:r>
            <a:endParaRPr b="0" lang="en-US" sz="3200" spc="-1" strike="noStrike">
              <a:solidFill>
                <a:srgbClr val="ffffff"/>
              </a:solidFill>
              <a:latin typeface="Times New Roman"/>
            </a:endParaRPr>
          </a:p>
        </p:txBody>
      </p:sp>
      <p:pic>
        <p:nvPicPr>
          <p:cNvPr id="138" name="Picture 5" descr="http://t1.gstatic.com/images?q=tbn:ANd9GcSK8yELRvDFKYmCebW6UJ3odowuqfw7r0EDPEQWn_Mi8Xfx3_cC"/>
          <p:cNvPicPr/>
          <p:nvPr/>
        </p:nvPicPr>
        <p:blipFill>
          <a:blip r:embed="rId1"/>
          <a:stretch/>
        </p:blipFill>
        <p:spPr>
          <a:xfrm>
            <a:off x="2438280" y="3505320"/>
            <a:ext cx="4648320" cy="3124080"/>
          </a:xfrm>
          <a:prstGeom prst="rect">
            <a:avLst/>
          </a:prstGeom>
          <a:ln w="0">
            <a:noFill/>
          </a:ln>
        </p:spPr>
      </p:pic>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path" presetID="1">
                                  <p:stCondLst>
                                    <p:cond delay="0"/>
                                  </p:stCondLst>
                                  <p:iterate type="lt">
                                    <p:tmAbs val="50"/>
                                  </p:iterate>
                                  <p:childTnLst>
                                    <p:animMotion origin="layout" path="M 3.61111E-006 3.33333E-006 C 0.06892 3.33333E-006 0.125 0.02847 0.125 0.06389 C 0.125 0.09907 0.06892 0.12777 3.61111E-006 0.12777 C -0.0691 0.12777 -0.125 0.09907 -0.125 0.06389 C -0.125 0.02847 -0.0691 3.33333E-006 3.61111E-006 3.33333E-006 Z">
                                      <p:cBhvr>
                                        <p:cTn id="56" dur="500" fill="hold"/>
                                        <p:tgtEl>
                                          <p:spTgt spid="136"/>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1" dur="500">
                                          <p:stCondLst>
                                            <p:cond delay="0"/>
                                          </p:stCondLst>
                                        </p:cTn>
                                        <p:tgtEl>
                                          <p:spTgt spid="13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8.33333E-007 -4.44444E-006 C 0.02709 -0.00208 0.01684 -0.00046 0.0316 -0.00717 C 0.03837 -0.0162 0.04497 -0.02384 0.05139 -0.03333 C 0.05434 -0.03773 0.06059 -0.04583 0.06059 -0.04583 C 0.06528 -0.0787 0.06337 -0.06782 0.06459 -0.12824 C 0.0632 -0.18518 0.07431 -0.18611 0.0408 -0.18958 C 0.02257 -0.18564 0.00521 -0.18194 -0.01319 -0.17916 C -0.03993 -0.17083 -0.00902 -0.17939 -0.05659 -0.17384 C -0.06458 -0.17291 -0.07222 -0.16967 -0.0802 -0.16852 C -0.09548 -0.16157 -0.11128 -0.15949 -0.125 -0.14745 C -0.15 -0.12592 -0.16163 -0.09074 -0.17621 -0.0581 C -0.19757 -0.01018 -0.21458 0.04074 -0.22621 0.09468 C -0.22673 0.09931 -0.22777 0.10394 -0.2276 0.10857 C -0.22725 0.12431 -0.22691 0.14028 -0.225 0.15602 C -0.22204 0.18056 -0.1934 0.18403 -0.1802 0.1875 C -0.1618 0.18588 -0.14322 0.18588 -0.125 0.18241 C -0.1 0.17778 -0.05781 0.16482 -0.03941 0.13843 C -0.02013 0.11088 -0.00503 0.07755 0.0132 0.04908 C 0.01997 0.03843 0.02865 0.02986 0.03559 0.01922 C 0.04688 0.00209 0.0573 -0.01597 0.06841 -0.03333 C 0.07431 -0.04259 0.08559 -0.06157 0.08559 -0.06157 C 0.09358 -0.1074 0.05851 -0.12963 0.03021 -0.13333 C 0.01875 -0.13171 0.00712 -0.13194 -0.00399 -0.12824 C -0.01232 -0.12546 -0.01996 -0.11944 -0.0276 -0.11412 C -0.05763 -0.09328 -0.09253 -0.06967 -0.11701 -0.03703 C -0.11788 -0.03402 -0.11892 -0.03125 -0.11979 -0.02824 C -0.1217 -0.02129 -0.125 -0.00717 -0.125 -0.00717 C -0.12847 0.02338 -0.12725 0.06574 -0.1026 0.07894 C -0.09531 0.08287 -0.08663 0.08311 -0.07899 0.08403 C -0.0684 0.08172 -0.05763 0.08102 -0.04739 0.07709 C -0.02656 0.06898 -0.00486 0.04561 0.01181 0.02801 C 0.02587 0.0132 0.03212 0.00811 0.03681 -0.0125 C 0.03612 -0.01666 0.03334 -0.0324 0.0316 -0.03703 C 0.02223 -0.06227 -0.00225 -0.07801 -0.02239 -0.08264 C -0.02638 -0.08194 -0.03055 -0.08287 -0.0342 -0.08078 C -0.03628 -0.07963 -0.0368 -0.07592 -0.03819 -0.07384 C -0.04895 -0.05764 -0.05763 -0.04305 -0.06441 -0.02291 C -0.0677 -0.01319 -0.07361 0.00695 -0.07361 0.00695 C -0.07534 0.02408 -0.08072 0.04283 -0.06579 0.0507 C -0.05347 0.04838 -0.04079 0.04885 -0.02899 0.04375 C -0.00937 0.03519 0.02379 0.00973 0.03421 -0.01759 C 0.03334 -0.02407 0.03334 -0.03102 0.0316 -0.03703 C 0.02743 -0.05115 0.01059 -0.05208 0.00139 -0.05439 C -0.0052 -0.05393 -0.01215 -0.05555 -0.0184 -0.05277 C -0.02482 -0.05 -0.025 -0.02037 -0.025 -0.01597 E">
                                      <p:cBhvr>
                                        <p:cTn id="65" dur="2000" fill="hold"/>
                                        <p:tgtEl>
                                          <p:spTgt spid="1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was the difference between Samurai and Daimyo </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defended the land and kept order in society. The Daimyo controlled other Samurai’s and governed large areas of farmland.</a:t>
            </a:r>
            <a:endParaRPr b="0" lang="en-US" sz="3200" spc="-1" strike="noStrike">
              <a:solidFill>
                <a:srgbClr val="ffffff"/>
              </a:solidFill>
              <a:latin typeface="Times New Roman"/>
            </a:endParaRPr>
          </a:p>
        </p:txBody>
      </p:sp>
      <p:pic>
        <p:nvPicPr>
          <p:cNvPr id="141" name="Picture 5" descr="http://t0.gstatic.com/images?q=tbn:ANd9GcQKYRrq2R3Mq2uA2WLSvBgfZCpCicUhdUSiXHPp8WsUVU3jZW0bNw"/>
          <p:cNvPicPr/>
          <p:nvPr/>
        </p:nvPicPr>
        <p:blipFill>
          <a:blip r:embed="rId1"/>
          <a:stretch/>
        </p:blipFill>
        <p:spPr>
          <a:xfrm>
            <a:off x="4724280" y="3505320"/>
            <a:ext cx="2819520" cy="2438280"/>
          </a:xfrm>
          <a:prstGeom prst="rect">
            <a:avLst/>
          </a:prstGeom>
          <a:ln w="0">
            <a:noFill/>
          </a:ln>
        </p:spPr>
      </p:pic>
      <p:pic>
        <p:nvPicPr>
          <p:cNvPr id="142" name="Picture 7" descr="http://t0.gstatic.com/images?q=tbn:ANd9GcQyaiICgCT6iIY-z42QO83ONoXl55GBYTpHbDb9JHVEnIT6Lnp18g"/>
          <p:cNvPicPr/>
          <p:nvPr/>
        </p:nvPicPr>
        <p:blipFill>
          <a:blip r:embed="rId2"/>
          <a:stretch/>
        </p:blipFill>
        <p:spPr>
          <a:xfrm>
            <a:off x="2819520" y="3505320"/>
            <a:ext cx="1904760" cy="24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path" presetID="0">
                                  <p:stCondLst>
                                    <p:cond delay="0"/>
                                  </p:stCondLst>
                                  <p:childTnLst>
                                    <p:animMotion origin="layout" path="M 6.38889E-006 -3.7037E-006 C -0.01041 -0.0044 0.01824 -0.03217 0.02119 -0.0368 C 0.03247 -0.05509 0.04306 -0.07407 0.054 -0.09282 C 0.09133 -0.15671 0.13108 -0.21828 0.14619 -0.29815 C 0.14723 -0.33102 0.14497 -0.36412 0.14879 -0.39653 C 0.14931 -0.40023 0.15313 -0.40115 0.15539 -0.40347 C 0.14254 -0.4169 0.15105 -0.40833 0.129 -0.42801 C 0.12362 -0.43287 0.11963 -0.44004 0.11459 -0.4456 C 0.09671 -0.46551 0.07379 -0.49236 0.05001 -0.49815 C 0.02692 -0.49583 0.01112 -0.49213 -0.01041 -0.48588 C -0.01388 -0.48472 -0.01753 -0.48333 -0.021 -0.4824 C -0.02586 -0.48102 -0.03541 -0.47893 -0.03541 -0.47893 C -0.06371 -0.4875 -0.12239 -0.45879 -0.1486 -0.44907 C -0.22395 -0.42106 -0.32256 -0.37384 -0.34201 -0.25949 C -0.34253 -0.2537 -0.34149 -0.24722 -0.3434 -0.24213 C -0.34478 -0.23842 -0.34826 -0.23657 -0.35121 -0.23495 C -0.36787 -0.22592 -0.3835 -0.21597 -0.39999 -0.20694 C -0.42447 -0.19375 -0.45069 -0.17893 -0.471 -0.15602 C -0.49322 -0.13078 -0.51076 -0.10046 -0.53159 -0.07361 C -0.53402 -0.06296 -0.53749 -0.05324 -0.5394 -0.04213 C -0.54027 -0.02523 -0.54079 -0.0081 -0.54201 0.0088 C -0.54253 0.01713 -0.54999 0.03172 -0.54999 0.03172 C -0.55121 0.03843 -0.55156 0.0426 -0.5552 0.04746 E">
                                      <p:cBhvr>
                                        <p:cTn id="71" dur="500" fill="hold"/>
                                        <p:tgtEl>
                                          <p:spTgt spid="141"/>
                                        </p:tgtEl>
                                      </p:cBhvr>
                                    </p:animMotion>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0">
                                  <p:stCondLst>
                                    <p:cond delay="0"/>
                                  </p:stCondLst>
                                  <p:childTnLst>
                                    <p:animMotion origin="layout" path="M 2.77778E-006 6.2963E-006 C 0.00694 -0.23842 0.12708 -0.43749 0.2618 -0.5824 C 0.29253 -0.61573 0.325 -0.64559 0.35659 -0.67708 C 0.38333 -0.70346 0.38993 -0.70555 0.42361 -0.71041 C 0.44514 -0.70971 0.47083 -0.72221 0.48819 -0.70508 C 0.49375 -0.69953 0.50121 -0.68726 0.50399 -0.67893 C 0.5059 -0.67314 0.5092 -0.66133 0.5092 -0.66133 C 0.51319 -0.62569 0.5092 -0.58865 0.50121 -0.55462 C 0.49843 -0.54282 0.49566 -0.53402 0.49201 -0.52268 C 0.48975 -0.51596 0.48559 -0.50161 0.48559 -0.50161 C 0.48437 -0.4905 0.48281 -0.47939 0.48159 -0.46828 C 0.48107 -0.47036 0.48159 -0.4736 0.48021 -0.4736 C 0.47882 -0.4736 0.47951 -0.4699 0.47899 -0.46828 C 0.47691 -0.46203 0.47552 -0.45995 0.47239 -0.45439 C 0.47153 -0.45092 0.47048 -0.44745 0.46979 -0.44374 C 0.46875 -0.43795 0.46701 -0.42615 0.46701 -0.42615 C 0.46805 -0.38448 0.47014 -0.35069 0.4658 -0.30856 C 0.46458 -0.29791 0.45642 -0.29027 0.4526 -0.28055 C 0.44357 -0.25809 0.43507 -0.23495 0.42621 -0.21226 C 0.41458 -0.18194 0.40798 -0.14374 0.4026 -0.11041 C 0.40052 -0.07916 0.39722 -0.04837 0.39479 -0.01735 C 0.396 -0.00902 0.39739 -0.00115 0.39861 0.00718 C 0.39826 0.0176 0.39739 0.03867 0.39739 0.03867 E">
                                      <p:cBhvr>
                                        <p:cTn id="75" dur="1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914040"/>
            <a:ext cx="815328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powers did the shogun have during the Tokugawa dynasty? What powers were reserved for the daimyo?</a:t>
            </a:r>
            <a:endParaRPr b="1" lang="en-US" sz="4000" spc="-1" strike="noStrike">
              <a:solidFill>
                <a:srgbClr val="feec94"/>
              </a:solidFill>
              <a:latin typeface="Times New Roman"/>
            </a:endParaRPr>
          </a:p>
        </p:txBody>
      </p:sp>
      <p:sp>
        <p:nvSpPr>
          <p:cNvPr id="144" name="PlaceHolder 2"/>
          <p:cNvSpPr>
            <a:spLocks noGrp="1"/>
          </p:cNvSpPr>
          <p:nvPr>
            <p:ph/>
          </p:nvPr>
        </p:nvSpPr>
        <p:spPr>
          <a:xfrm>
            <a:off x="533520" y="2437920"/>
            <a:ext cx="8153280" cy="369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hoguns of the Tokugawa dynasty controlled trade, silver and gold mines, and owns 25% of the country’s farmland and the 75% left were given for the daimyo.</a:t>
            </a:r>
            <a:endParaRPr b="0" lang="en-US" sz="3200" spc="-1" strike="noStrike">
              <a:solidFill>
                <a:srgbClr val="ffffff"/>
              </a:solidFill>
              <a:latin typeface="Times New Roman"/>
            </a:endParaRPr>
          </a:p>
        </p:txBody>
      </p:sp>
      <p:sp>
        <p:nvSpPr>
          <p:cNvPr id="145" name="AutoShape 5"/>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AutoShape 7"/>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AutoShape 9"/>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AutoShape 11"/>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AutoShape 13"/>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AutoShape 15"/>
          <p:cNvSpPr/>
          <p:nvPr/>
        </p:nvSpPr>
        <p:spPr>
          <a:xfrm>
            <a:off x="76320" y="-617400"/>
            <a:ext cx="130464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AutoShape 19"/>
          <p:cNvSpPr/>
          <p:nvPr/>
        </p:nvSpPr>
        <p:spPr>
          <a:xfrm>
            <a:off x="76320" y="-647640"/>
            <a:ext cx="175248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AutoShape 21"/>
          <p:cNvSpPr/>
          <p:nvPr/>
        </p:nvSpPr>
        <p:spPr>
          <a:xfrm>
            <a:off x="76320" y="-647640"/>
            <a:ext cx="175248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path" presetID="0">
                                  <p:stCondLst>
                                    <p:cond delay="0"/>
                                  </p:stCondLst>
                                  <p:childTnLst>
                                    <p:animMotion origin="layout" path="M 0 0 C 0.01614 -0.00162 0.03246 -0.00254 0.04861 -0.00509 C 0.05694 -0.00648 0.07465 -0.0162 0.08159 -0.01921 C 0.09722 -0.02592 0.11319 -0.02939 0.12899 -0.03495 C 0.16996 -0.03379 0.21597 -0.02638 0.25659 -0.04027 C 0.28507 -0.06504 0.35729 -0.06041 0.37899 -0.06134 C 0.40642 -0.06805 0.43403 -0.06898 0.4618 -0.07175 C 0.4559 -0.08379 0.45781 -0.078 0.45781 -0.10347 C 0.45781 -0.14444 0.45833 -0.18518 0.4592 -0.22615 C 0.45937 -0.23495 0.46059 -0.24375 0.4618 -0.25254 C 0.46284 -0.25972 0.4658 -0.27361 0.4658 -0.27361 C 0.46666 -0.30717 0.4625 -0.32129 0.4776 -0.34213 C 0.47708 -0.34907 0.47691 -0.35625 0.47621 -0.36319 C 0.47465 -0.37939 0.45972 -0.38402 0.45 -0.38588 C 0.38281 -0.38518 0.31545 -0.39004 0.24861 -0.3824 C 0.21823 -0.37893 0.18993 -0.36828 0.16041 -0.35787 C 0.14444 -0.35208 0.14982 -0.35763 0.13819 -0.35069 C 0.13455 -0.34861 0.1276 -0.34375 0.1276 -0.34375 C 0.09062 -0.35092 0.05399 -0.35972 0.01701 -0.36481 C -0.01198 -0.36226 -0.03976 -0.35625 -0.06841 -0.35254 C -0.09236 -0.34629 -0.10729 -0.34791 -0.13438 -0.34907 C -0.15347 -0.35532 -0.17257 -0.36412 -0.19219 -0.36828 C -0.19792 -0.36944 -0.20347 -0.3706 -0.2092 -0.37175 C -0.21233 -0.37245 -0.21841 -0.37361 -0.21841 -0.37361 C -0.26528 -0.37268 -0.3125 -0.37708 -0.3592 -0.37013 C -0.36111 -0.3699 -0.36077 -0.36527 -0.36181 -0.36319 C -0.36337 -0.35995 -0.36545 -0.3574 -0.36719 -0.35439 C -0.36875 -0.34722 -0.37049 -0.34027 -0.3724 -0.33333 C -0.37413 -0.31203 -0.37657 -0.2912 -0.379 -0.27013 C -0.37847 -0.19953 -0.37518 -0.10879 -0.37761 -0.03148 C -0.36337 -0.0125 -0.33247 -0.01041 -0.3132 -0.00694 C -0.27257 -0.00925 -0.23368 -0.0155 -0.19341 -0.02106 C -0.1783 -0.02615 -0.16823 -0.02592 -0.15261 -0.02268 C -0.12657 -0.01111 -0.09966 -0.00324 -0.07379 0.0088 C -0.05851 0.01598 -0.04115 0.02014 -0.02639 0.02987 C -0.02118 0.0294 -0.01545 0.03102 -0.01059 0.02825 C -0.00834 0.02709 -0.00955 0.02176 -0.00799 0.01945 C -0.0066 0.01737 -0.00434 0.01713 -0.00261 0.01598 C 0.00034 0.01181 0.00087 0.00764 0.00399 0.00348 C 0.00625 -0.00578 0.00573 -0.01527 0.00781 -0.02453 C 0.01007 -0.1155 0.00764 -0.05208 0.01059 -0.1 C 0.01163 -0.11666 0.01007 -0.12152 0.0158 -0.13333 C 0.01701 -0.15023 0.0184 -0.16342 0.01701 -0.18055 C 0.01545 -0.17407 0.01302 -0.16782 0.0118 -0.16134 C 0.00677 -0.13564 0.01215 -0.15162 0.00659 -0.1368 C 0.00104 -0.10162 0.00955 -0.15138 0.0026 -0.12106 C -0.0033 -0.09537 -0.00625 -0.06805 -0.01181 -0.04213 C -0.01407 -0.03194 -0.01476 -0.02199 -0.01841 -0.01226 C -0.02014 0.00093 -0.02101 0.00348 -0.01979 0.0176 C -0.01632 0.01644 -0.01216 0.0169 -0.0092 0.01412 C -0.00764 0.01274 -0.00886 0.00926 -0.00799 0.00718 C -0.00747 0.00556 -0.00608 0.00463 -0.00521 0.00348 C 0.00104 0.00649 -0.00278 0.00533 0.00659 0.00533 E">
                                      <p:cBhvr>
                                        <p:cTn id="81" dur="2000" fill="hold"/>
                                        <p:tgtEl>
                                          <p:spTgt spid="144">
                                            <p:txEl>
                                              <p:pRg st="0" end="0"/>
                                            </p:txEl>
                                          </p:spTgt>
                                        </p:tgtEl>
                                      </p:cBhvr>
                                    </p:animMotion>
                                  </p:childTnLst>
                                </p:cTn>
                              </p:par>
                            </p:childTnLst>
                          </p:cTn>
                        </p:par>
                      </p:childTnLst>
                    </p:cTn>
                  </p:par>
                  <p:par>
                    <p:cTn id="82" fill="hold">
                      <p:stCondLst>
                        <p:cond delay="indefinite"/>
                      </p:stCondLst>
                      <p:childTnLst>
                        <p:par>
                          <p:cTn id="83" fill="hold">
                            <p:stCondLst>
                              <p:cond delay="0"/>
                            </p:stCondLst>
                            <p:childTnLst>
                              <p:par>
                                <p:cTn id="84" nodeType="clickEffect" fill="hold" presetClass="path" presetID="0">
                                  <p:stCondLst>
                                    <p:cond delay="0"/>
                                  </p:stCondLst>
                                  <p:childTnLst>
                                    <p:animMotion origin="layout" path="M 0 0 C 0.02448 0.00926 -0.00226 -0.00254 0.01441 0.0088 C 0.02621 0.01667 0.04236 0.01922 0.05521 0.02107 C 0.08542 0.01806 0.11719 0.02269 0.14201 -0.00347 C 0.14757 -0.01574 0.15 -0.02453 0.15121 -0.03865 C 0.14948 -0.05139 0.15 -0.06527 0.14601 -0.07731 C 0.14358 -0.08426 0.13767 -0.08842 0.13281 -0.09305 C 0.10729 -0.11666 0.08003 -0.11782 0.05 -0.12106 C 0.03733 -0.11921 0.02413 -0.12014 0.0118 -0.11574 C -0.04549 -0.09537 -0.10052 -0.04143 -0.1342 0.02269 C -0.15 0.09861 -0.12274 0.1551 -0.0724 0.18079 C -0.05833 0.17732 -0.04392 0.17639 -0.03038 0.17014 C 0.00035 0.15602 0.02726 0.12593 0.05121 0.09838 C 0.09618 0.04676 0.13698 -0.00625000000000001 0.15521 -0.0824 C 0.15382 -0.08935 0.1533 -0.09676 0.15121 -0.10347 C 0.14201 -0.13379 0.11979 -0.13564 0.09861 -0.14213 C 0.0684 -0.14027 0.03785 -0.14166 0.00781 -0.1368 C -0.03958 -0.12939 -0.08264 -0.09838 -0.12118 -0.06319 C -0.14514 -0.0412 -0.15868 -0.03078 -0.175 0 C -0.18472 0.01852 -0.18976 0.04144 -0.19358 0.0632 C -0.18906 0.08519 -0.1908 0.09815 -0.175 0.1088 C -0.16979 0.11227 -0.16372 0.11227 -0.15799 0.11412 C -0.14167 0.11227 -0.12517 0.11366 -0.1092 0.1088 C -0.0566 0.09306 -0.01979 0.02778 0.00521 -0.02986 C 0.0151 -0.07685 0.03299 -0.15 -0.0066 -0.18426 C -0.01094 -0.18819 -0.01632 -0.18889 -0.02118 -0.1912 C -0.03386 -0.18657 -0.04774 -0.18588 -0.0592 -0.17708 C -0.10886 -0.13889 -0.12969 -0.04305 -0.14479 0.02454 C -0.14514 0.03426 -0.14983 0.0919 -0.13958 0.09838 C -0.12899 0.10533 -0.11684 0.09005 -0.10538 0.08588 C -0.06094 0.04051 -0.02517 -0.00694 -0.00399 -0.07731 C -0.00313 -0.09398 -0.00052 -0.1162 -0.0158 -0.12453 C -0.02031 -0.12708 -0.02552 -0.12685 -0.03038 -0.12801 C -0.05903 -0.11851 -0.0632 -0.07314 -0.06979 -0.04027 C -0.07136 -0.0162 -0.07761 0.0257 -0.0632 0.04746 C -0.0599 0.05232 -0.05434 0.05324 -0.05 0.05625 C -0.01771 0.04607 -0.0184 0.05116 -0.00799 0.01227 C -0.01024 -0.00439 -0.01059 -0.02106 -0.01458 -0.0368 C -0.02031 -0.05995 -0.03854 -0.06967 -0.05399 -0.07546 C -0.05886 -0.07314 -0.06719 -0.075 -0.06858 -0.06828 C -0.07153 -0.05347 -0.06754 -0.0375 -0.06458 -0.02268 C -0.06337 -0.01713 -0.0566 -0.00879 -0.0566 -0.00879 E">
                                      <p:cBhvr>
                                        <p:cTn id="85" dur="2000" fill="hold"/>
                                        <p:tgtEl>
                                          <p:spTgt spid="1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the social class system during the Tokugawa dynasty rule and explain how that system gave power to the shoguns </a:t>
            </a:r>
            <a:endParaRPr b="1" lang="en-US" sz="4000" spc="-1" strike="noStrike">
              <a:solidFill>
                <a:srgbClr val="feec94"/>
              </a:solidFill>
              <a:latin typeface="Times New Roman"/>
            </a:endParaRPr>
          </a:p>
        </p:txBody>
      </p:sp>
      <p:sp>
        <p:nvSpPr>
          <p:cNvPr id="154" name="PlaceHolder 2"/>
          <p:cNvSpPr>
            <a:spLocks noGrp="1"/>
          </p:cNvSpPr>
          <p:nvPr>
            <p:ph/>
          </p:nvPr>
        </p:nvSpPr>
        <p:spPr>
          <a:xfrm>
            <a:off x="533520" y="2362320"/>
            <a:ext cx="8153280" cy="37684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ass system was the Samurai which were at the top, then came merchants, artisans, and farmers. That gave power to the shoguns because the would make the daimyo fight against each 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path" presetID="0">
                                  <p:stCondLst>
                                    <p:cond delay="0"/>
                                  </p:stCondLst>
                                  <p:childTnLst>
                                    <p:animMotion origin="layout" path="M 0 0 C 0.00451 0.02477 0.00885 0.04375 0.01562 0.06667 C 0.01632 0.06898 0.01597 0.07153 0.01701 0.07361 C 0.01857 0.07662 0.0217 0.07801 0.02361 0.08079 C 0.03142 0.000689999999999996 0.03941 -0.08032 0.05 -0.15972 C 0.05208 -0.21389 0.04948 -0.17037 0.05382 -0.21227 C 0.05486 -0.22222 0.05642 -0.24213 0.05642 -0.24213 C 0.05729 -0.26343 0.05712 -0.27986 0.06041 -0.3 C 0.06128 -0.30532 0.06302 -0.31574 0.06302 -0.31574 C 0.06267 -0.22986 0.06267 -0.14375 0.0618 -0.05787 C 0.06146 -0.02361 0.0467 0.02801 0.02222 0.04375 C 0.01337 0.03981 0.01267 0.03958 0.01041 0.02801 C 0.0125 -0.04097 0.01719 -0.10718 0.01962 -0.17546 C 0.01892 -0.20671 0.02344 -0.25463 -0.0066 -0.26319 C -0.01424 -0.26065 -0.0158 -0.25023 -0.01858 -0.24028 C -0.02361 -0.22245 -0.02656 -0.2037 -0.0316 -0.18588 C -0.04427 -0.1412 -0.03247 -0.19306 -0.04358 -0.1456 C -0.04549 -0.1375 -0.04688 -0.12917 -0.04879 -0.12106 C -0.05122 -0.11111 -0.0566 -0.0912 -0.0566 -0.0912 C -0.05799 -0.07963 -0.05834 -0.06412 -0.0632 -0.0544 C -0.06372 -0.05208 -0.06372 -0.04954 -0.06459 -0.04745 C -0.0665 -0.04306 -0.07118 -0.03519 -0.07118 -0.03519 C -0.08299 -0.10671 -0.07431 -0.0456 -0.05799 -0.22106 C -0.05434 -0.26065 -0.05087 -0.30046 -0.04879 -0.34028 C -0.04913 -0.34792 -0.04792 -0.35602 -0.05 -0.36319 C -0.05087 -0.3662 -0.05139 -0.35694 -0.05278 -0.3544 C -0.06493 -0.33056 -0.05139 -0.36551 -0.06198 -0.33866 C -0.08802 -0.27269 -0.0467 -0.37199 -0.08299 -0.2912 C -0.08941 -0.27685 -0.09497 -0.26181 -0.10139 -0.24745 C -0.10625 -0.23657 -0.11268 -0.22685 -0.11719 -0.21574 C -0.12865 -0.1875 -0.13577 -0.15463 -0.14358 -0.12454 C -0.14775 -0.17269 -0.11372 -0.20625 -0.10139 -0.24745 C -0.09948 -0.2537 -0.11007 -0.24028 -0.1132 -0.23519 C -0.13143 -0.20532 -0.10174 -0.25301 -0.12778 -0.21574 C -0.1507 -0.1831 -0.16702 -0.14074 -0.1974 -0.11921 C -0.20868 -0.12269 -0.21025 -0.1206 -0.2132 -0.13333 C -0.21285 -0.14028 -0.21268 -0.14745 -0.21198 -0.1544 C -0.21146 -0.15972 -0.21025 -0.16481 -0.20938 -0.17014 C -0.20903 -0.17199 -0.2066 -0.17546 -0.20799 -0.17546 C -0.20955 -0.17546 -0.21389 -0.16644 -0.21459 -0.16481 C -0.21962 -0.15208 -0.22413 -0.13912 -0.229 -0.12639 C -0.23038 -0.12292 -0.23125 -0.11898 -0.23299 -0.11574 C -0.23472 -0.11227 -0.2382 -0.10532 -0.2382 -0.10532 E">
                                      <p:cBhvr>
                                        <p:cTn id="91" dur="2000" fill="hold"/>
                                        <p:tgtEl>
                                          <p:spTgt spid="15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7:44:19Z</dcterms:created>
  <dc:creator>jdeguzman</dc:creator>
  <dc:description/>
  <dc:language>en-US</dc:language>
  <cp:lastModifiedBy>Owner</cp:lastModifiedBy>
  <dcterms:modified xsi:type="dcterms:W3CDTF">2011-05-24T13:19:09Z</dcterms:modified>
  <cp:revision>8</cp:revision>
  <dc:subject/>
  <dc:title>Chapter 12                    Lesson 4 </dc:title>
</cp:coreProperties>
</file>